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261B-B7EF-4A96-9710-9ABF6FCB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72CC-83E9-4F42-8DC1-805137CE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B215-8EBD-4F01-BB08-EAFF5B43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5F93-52D3-431B-807E-E7B299BB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B216-005C-43B7-B6B3-7019045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D9E6-2E8F-4EE0-B70A-F8F1A62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9BCA-5DB1-4AAE-9347-F20222B7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51F-7090-4ECC-91AF-E7D8D24D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1603-6FB4-4999-864C-1A10E3C7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CAB7-2912-4747-A881-8BCEE401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98AF-B601-49B9-A628-217D1938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8C34-2B74-45C4-84B3-0B4FFDE9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C073-F17C-4626-AF63-CD1F20F4C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burger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a re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ara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133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80880" y="1981080"/>
            <a:ext cx="3429000" cy="838440"/>
          </a:xfrm>
          <a:custGeom>
            <a:avLst/>
            <a:gdLst>
              <a:gd name="textAreaLeft" fmla="*/ 54360 w 3429000"/>
              <a:gd name="textAreaRight" fmla="*/ 3374640 w 3429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88310" h="21600">
                <a:moveTo>
                  <a:pt x="0" y="0"/>
                </a:moveTo>
                <a:lnTo>
                  <a:pt x="88310" y="0"/>
                </a:lnTo>
                <a:lnTo>
                  <a:pt x="88310" y="21600"/>
                </a:lnTo>
                <a:lnTo>
                  <a:pt x="0" y="21600"/>
                </a:lnTo>
                <a:close/>
              </a:path>
              <a:path fill="lightenLess" w="88310" h="21600">
                <a:moveTo>
                  <a:pt x="0" y="0"/>
                </a:moveTo>
                <a:lnTo>
                  <a:pt x="88310" y="0"/>
                </a:lnTo>
                <a:lnTo>
                  <a:pt x="86910" y="1400"/>
                </a:lnTo>
                <a:lnTo>
                  <a:pt x="1400" y="1400"/>
                </a:lnTo>
                <a:close/>
              </a:path>
              <a:path fill="darken" w="88310" h="21600">
                <a:moveTo>
                  <a:pt x="88310" y="0"/>
                </a:moveTo>
                <a:lnTo>
                  <a:pt x="88310" y="21600"/>
                </a:lnTo>
                <a:lnTo>
                  <a:pt x="86910" y="20200"/>
                </a:lnTo>
                <a:lnTo>
                  <a:pt x="86910" y="1400"/>
                </a:lnTo>
                <a:close/>
              </a:path>
              <a:path fill="darkenLess" w="88310" h="21600">
                <a:moveTo>
                  <a:pt x="88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10" y="20200"/>
                </a:lnTo>
                <a:close/>
              </a:path>
              <a:path fill="lighten" w="88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954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962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343400"/>
            <a:ext cx="3276720" cy="838080"/>
          </a:xfrm>
          <a:custGeom>
            <a:avLst/>
            <a:gdLst>
              <a:gd name="textAreaLeft" fmla="*/ 54000 w 3276720"/>
              <a:gd name="textAreaRight" fmla="*/ 3222720 w 3276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4425" h="21600">
                <a:moveTo>
                  <a:pt x="0" y="0"/>
                </a:moveTo>
                <a:lnTo>
                  <a:pt x="84425" y="0"/>
                </a:lnTo>
                <a:lnTo>
                  <a:pt x="84425" y="21600"/>
                </a:lnTo>
                <a:lnTo>
                  <a:pt x="0" y="21600"/>
                </a:lnTo>
                <a:close/>
              </a:path>
              <a:path fill="lightenLess" w="84425" h="21600">
                <a:moveTo>
                  <a:pt x="0" y="0"/>
                </a:moveTo>
                <a:lnTo>
                  <a:pt x="84425" y="0"/>
                </a:lnTo>
                <a:lnTo>
                  <a:pt x="83025" y="1400"/>
                </a:lnTo>
                <a:lnTo>
                  <a:pt x="1400" y="1400"/>
                </a:lnTo>
                <a:close/>
              </a:path>
              <a:path fill="darken" w="84425" h="21600">
                <a:moveTo>
                  <a:pt x="84425" y="0"/>
                </a:moveTo>
                <a:lnTo>
                  <a:pt x="84425" y="21600"/>
                </a:lnTo>
                <a:lnTo>
                  <a:pt x="83025" y="20200"/>
                </a:lnTo>
                <a:lnTo>
                  <a:pt x="83025" y="1400"/>
                </a:lnTo>
                <a:close/>
              </a:path>
              <a:path fill="darkenLess" w="84425" h="21600">
                <a:moveTo>
                  <a:pt x="8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25" y="20200"/>
                </a:lnTo>
                <a:close/>
              </a:path>
              <a:path fill="lighten" w="8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59151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on me to learn about good paragrap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opic Sentence (Top B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first sentence of your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eds to be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ls what your paragraph is going to b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002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676520"/>
            <a:ext cx="388620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re are many reasons that I love to tea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First of all, I love to teach because I love being at school.  Another reason I love teaching is that the days go by quickly.  A third reason I love to teach is because I love seeing a student understand something new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0"/>
            <a:ext cx="7315200" cy="68421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First Detail (Lettu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topic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s to be full of good “lettuc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1600200"/>
            <a:ext cx="4038480" cy="42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A third reason I love to teach is because I love seeing a student understand something new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econd Detail (Toma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ll shoul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follow directly after the lettuc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be full of good “juicy” detai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160020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other reason I love teaching is that the days go by quickly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A third reason I love to teach is because I love seeing a student understand something new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0" b="64686"/>
          <a:stretch/>
        </p:blipFill>
        <p:spPr>
          <a:xfrm>
            <a:off x="0" y="-54000"/>
            <a:ext cx="9144000" cy="6912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Third Detail (Chees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ill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start differently than other sente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be full of good “cheesy” detail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160020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 third reason I love to teach is because I love seeing a student understand something new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Finally, I love to teach because I love to be around kids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12085" t="21428" r="8293" b="0"/>
          <a:stretch/>
        </p:blipFill>
        <p:spPr>
          <a:xfrm>
            <a:off x="0" y="-3816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ast Detail (Me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!! 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start differently than most of the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 “meat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60020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A third reason I love to teach is because I love seeing a student understand something new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nally, I love to teach because I love to be around kid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ese are just a few reasons I love to teach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return to the hambur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1" dur="20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losing Sent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Bottom B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uld look a lot like the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summarize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eeds to be an obvious end to the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152388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00600" y="1752480"/>
            <a:ext cx="40384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re are many reasons that I love to teach.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of all, I love to teach because I love being at schoo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 love teaching is that the days go by quickly.  A third reason I love to teach is because I love seeing a student understand something new. Finally, I love to teach because I love to be around kids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se are just a few reasons I love to teach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see a good paragraph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48:17Z</dcterms:created>
  <dc:creator>p1017404</dc:creator>
  <dc:description/>
  <dc:language>en-US</dc:language>
  <cp:lastModifiedBy>Teacher</cp:lastModifiedBy>
  <dcterms:modified xsi:type="dcterms:W3CDTF">2008-10-23T13:23:06Z</dcterms:modified>
  <cp:revision>8</cp:revision>
  <dc:subject/>
  <dc:title>Hamburger Paragraphs</dc:title>
</cp:coreProperties>
</file>